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31C6-6132-4D7D-A494-57A280C4C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A20C-F11E-4D2E-8057-D848683C9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584350-97A9-4A7B-B665-41857B235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030A5B-1298-4D61-9F4A-B0DA5A4B8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80617D-4686-47FC-9059-FF9649340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840A1C-53F9-4571-ABE0-5229FB35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A53B9A-6A80-42CF-B81D-2B830858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A5482F-639F-4D46-9E20-1962D2D7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4A56E9-A165-49A7-8F86-8B445AF1C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A243C0-90B1-49B9-B7B5-05D5FD2D1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AF8623-7308-49EB-B7D6-B3880A191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23613D-2E8B-438A-BF31-6CCE3E762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F502-39A1-44D2-A673-8490FC2EA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255B39-75D6-4245-8CC2-C5C1D1D89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C39D0B-DAC8-43B2-B4B4-9117E8E9D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FAE665-F6CE-4C90-9C43-C01531258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6104C5-1516-4FB5-B419-2BDE0534D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E9CFA8-8E69-46B0-B5C5-E06C36B30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2FFE4F-810A-4C05-980F-3A2A14A0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586BA2-3B8C-4B01-B652-81263041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D67A2A-E479-4E1A-A412-91A9311C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D70721-521E-4311-A708-FFE7E2DF7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899EA6-29DD-4AE0-BF1E-F57E48E30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5287-FAA1-4B0B-895A-0A3214F7C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FD2C0E-9723-4EC2-942D-FFBCC55AE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BC5904-B7C5-4F6E-AC2A-B3D39658F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5A67EB-6D52-42A8-839B-9AF5BA634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6FCF5A-99E7-4FD6-AF19-48DFAD1E7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C86056-0E00-4B5E-90D7-CACB8C888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4F4410-096A-493C-9D47-5DDC3766D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21E5E3-DCD9-42B7-A45D-94F68BD15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F89174-2960-4D05-B063-06B26FD2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94442E-738D-40FF-9509-C328CA35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04D530-6C8C-4FB0-AAAF-4E4B106D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078DB-F75E-4C26-AC98-738F5F6EB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F81A1D-4521-4092-A34D-DE4B38D88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1D7435-B713-4EA3-9DFC-74081E575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1D8845-7046-4DA2-AFE5-F72D8A3FD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25DE83-A219-46F1-9809-34827F191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15F936-990A-4055-9C3C-4AF29A36D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C42118-847F-4634-91ED-9BCE108A6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2474F1-7B74-484A-ACF5-644C79A34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4FFFB5-6A56-4890-9036-0D77C68FB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0B0567-768E-47B2-9714-7F4E204B4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012206-5C8D-49AB-9881-8F01259E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F2D37-53CE-4FD4-93AF-3FDE24D3D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0DEA7C-0312-4B77-85CA-284871FC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AE60E9-FE87-4EDE-A0AC-0DAEEC37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9E5168-7758-42B4-83D2-3FAD154CC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A9530F-123F-41D1-BF18-06EF6FCB0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2AC44A-38EC-4A67-9501-A4842D11D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F1FC33-3A35-4A31-9FCC-7DC06ACDF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4C0012-A77E-4A1E-8681-DCAA70DDB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3338E4-4D1F-429B-8BC2-3170DE56D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E1FD6A-489A-4BCD-B2D0-43079F234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8F192D-ACB4-4D82-A0D0-C77253F5F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9E9E7-E571-4F38-A082-CCE07A404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3458B6-904C-4C1C-9938-C6C53E8E5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E6BB81-461B-4294-87CF-B4D6C6EB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AFEDA9-2D0F-4EF7-BE4A-53965AC6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29D558-6D10-4AE0-883D-6B95E336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0FED3A-00C5-47A3-9203-AEC76337A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D04846-8690-4C42-8ACC-F7B87AC67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147FD3-9250-4684-88E9-29F4390E4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7D4E31-5F05-49A0-8788-5E834A0BB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38BAD4-2187-47CC-9057-D72640008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4617B5-0244-418E-BA5D-115E73D06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AAD13-8C26-4295-B955-F9D62B87F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2698FE-AD39-41D4-9F3B-B9B63EF3D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E3C98B-C18F-4BB0-AA24-00826F8D9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E716D8-6C25-48AA-9032-400926B0B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54AC84-BB36-4553-9B7F-D4AF82296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8C464C-0B21-4708-AB30-B209D5E6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4CA0BD-3692-488D-A519-17BE6DF8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BEAA46-D178-41D5-971A-D26D1EC44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65E092-74D0-48A9-B25A-E91DA9E23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25FC52-FA5B-42F4-91B3-23FA921DB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0AC62F-ADED-432D-AC6F-B5F1E3ED1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E0ED0-175B-4D99-8A92-971F4C290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3CE568-47A6-4EA2-A0E3-934E3A6E7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6E8E8A-8F4A-47A9-925B-BC296C127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44BA79-F152-4EB1-B3D0-09A9B3D90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342AE6-1885-44C8-A2F3-8C85B1F92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9C0E74-5AE8-4AE4-9304-81E3D6E18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693659-7765-451A-AAFA-6A1B5CEA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9D2B0A-7C8A-44D4-A2DE-6A5168B6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2AF766-6227-4342-8571-DAC928F4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A543E4-F4DD-476C-8B06-CCC959D80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83B473-92FD-47CF-8DFA-30F6AB416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FD9DE-611D-4706-811A-2213821E2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FEE10E-3FB7-4B39-9EEE-AEDD7D6BA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CBDE82-D30C-4678-94FF-BA926BF2A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EE4BA0-41C4-4FE6-82DA-86E7459F2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BED88F-60C1-4F02-A7D3-366D7D69F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8166D6-887D-4F16-9EA2-2C127A387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D08E68-5953-4D91-AEF9-F5883EDC0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609F73-8EE0-40AC-9A75-451AD0AF9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E249D4-44DD-41FF-9F9C-E69FEF77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B13283-6FD3-4FCD-8662-3A1D86DD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E3AF27-9696-4E9B-9273-2C9A5736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3EB84-F660-4356-969D-0152F6DC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4B9508-FBB7-4EEF-8433-800D01F48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0B2BAD-5069-4D00-944A-3BD5822B2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60A34A-10B8-4C41-A250-50711397C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29965A-8573-4881-A890-12FF7878A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0CAB99-1EA0-4FFE-ACAA-FC004703F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C585EE-2AE7-4F92-8689-3DEB53818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D74282-D266-4AC8-A359-91BDFF7D9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9F7D5D-3BD3-48BE-846E-F0E61F8A0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A16B56-E197-4957-B959-EE40DCFEF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87E8FD-51D3-4A66-90C9-2CD1260B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B0A0-CFA5-4752-B2D6-D4E4F904A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FB396-D292-4C0C-ADA4-2DC9D41B7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205D93-EBB0-421A-9831-200B1194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5AB56A-CE28-484D-8835-95DC2843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5CAAD4-04AF-49AF-856A-4A3FD7585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8CE089-DFD7-48FD-89DF-7633DE032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BFBA4F-6830-42DD-97D9-3120A3CB2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B7BF90-CD27-469B-B551-49DAD5476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189F30-9A64-4CD0-8EF5-358427E57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354E2F-C490-42DC-890F-96D640792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B96BE0-4224-425B-8638-8DA0A13F1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70F7C1-CAE3-44AD-B765-EC587E607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59734-C634-400D-82DA-16CFA73B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44BCA3-0F56-41EA-94E5-CF6BACAE3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CE90F8-A2A8-47FA-B8EC-2C227EC6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35E26B-CCB1-4885-BD1A-417E4B6A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4EE7B8-BF94-45EB-AA46-6A3568F5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B4F889-FB0B-43FB-BD94-A41F0818D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D141FC-14FB-4691-846C-83288ADF8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06F078-C1B7-4EA3-B535-3281888A8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10A0F6-7F8F-434D-AEFC-E38F13D9F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506CCE-EEFE-4256-84F5-6C844C136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472AEA-B6C2-4BA0-AE83-D7A504CFF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F8355-FB9A-42A1-9D89-D9E4D22F1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53A273-9171-4054-BDF2-63152CB2C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82E510-005A-4F17-81CA-BF7612810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C3BE86-D3E0-407A-BC4E-43C9C827E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718460-4A35-475D-A652-66D14705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ABD418-FBF8-4517-90B5-99A5AA34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1F992E-0D8D-4CA7-A13F-841F9CA9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37AABD-03A8-41D4-8863-B0010D6C9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4FEAE6-AE2C-49DE-8774-E9CFEA3AB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90DB97-2C22-4846-8D38-7A776B765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285EE2-E288-4C7D-AED2-3BF5949D1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CF42F-EF9F-4514-BAD4-5FF08A304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C3FF1D-1814-4F0D-9B2F-BFC66D156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8102A8-E00B-47DB-BE38-D9ED93303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BED1EE-0C30-4CCE-BE68-043FFD624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B04E9A-821E-4675-9E52-2999C1AA2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935AB8-8511-4A28-A0A8-18764DE04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7DF229-BCE8-4100-91B5-2A266B61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EECBE3-C8B9-43AA-AD51-555F6566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CA94D4-1455-4DE0-A6A9-77CEE9A0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5E7ECC-C2B5-43C8-BFC9-3E1E6EE2D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B23591-ED53-456B-B265-D161614E6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B5F9A-72BE-4DA4-89A0-8292F5BA8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A56A47-A694-4440-A5B0-062C4D387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C3E911-A4C1-41BC-B520-5B4FBB25F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6041CD-31CC-494C-8C77-089C82F88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6F2439-C40D-4723-8FDC-215188972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A03B47-B57E-4018-8229-E1187CADA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2259AB-082A-4B65-AD3E-A613F4AEC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8DCEB7-9A5A-462E-8500-765CF44F9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6DF27F-AF57-4C36-AA40-8C5E3824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30A60E-B7D0-443D-B2B2-34813202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D38B02-F81C-4023-8BC4-80D3ED6F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8AB53-614B-4297-BA22-BB2192293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5092F0-343B-4F56-8B06-2F71CB830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6A30CF-1046-48BA-8967-85F494294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C602A7-757B-4C84-8BB8-D12EF7BA5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1D351-9105-4CA0-98BB-A1F4BB2EF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FB65D-FE5D-457A-98CE-6901D9847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6D2C7-2C09-4C0F-BBAB-B327AEDD2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C2B6E-BE57-44D8-AE9D-622C073AB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2F6D-ADC6-452C-B7B0-3D48CA020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D3730-1C44-49A4-979D-9BB6E2E74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C0D76-8096-48C3-9BD2-19677FE5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FD075-2416-458E-B90A-C1863BF6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91FCF-9124-45E9-B64F-251C272D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44D0B-7F7F-4601-9CD9-9D6A5E6E7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C17CD-314E-4B2F-85C5-10FEA3C9F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30BA8-2364-4396-8ACE-7065450EA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4C7FE-197A-4A58-A775-E2C242CD4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F85B9-B5C5-4A74-AC86-20F671C92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339BC-A5B4-443C-A061-A15D7D2FC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DE58-602B-433D-BB36-7D3FF96F8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54CF4-3B95-4FCC-86F9-8CA068B24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A10DE-1E36-4DBE-A77E-B39282C83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06310-DFBF-47DE-82C3-C221689FE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A9469-2B2A-4EDE-A7A7-4DC9D809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E9EF5-4E63-4ACC-81CC-687D2DF3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B2C9F-4FF0-46F7-B0A2-383E44E6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BC743-A23D-4565-949A-6E433A765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8F2B0-8BA5-4FE7-BD2D-1A78E3A11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BB11D-E610-4703-9EC5-AF70634D8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0C9B1-D906-41AA-85D5-557901BD5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6EE9-9B04-470B-8800-296DEAB76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A21E0-0E50-4597-BA77-27A59FC8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91824-0F53-49ED-8D9F-09423336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19B73-EAF9-4305-9867-AEDF08D19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2A95A-A8C5-43B4-BE9E-9255CDBEB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BF029-0C8E-4C6F-A828-43D31343D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B7F73-117A-4C56-B5FD-329DFFEF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ED21B-0993-4C1E-8925-0FFD0592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E5062-8F69-4C2B-9CBF-EF8EAB7E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540FA-D085-456C-A90D-104B1911D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AB3AF-6EED-428A-AFA9-05AEEA06D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0418-3847-40BF-BA4E-38A5C24B3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A0611-60EB-42A3-9952-972C3DDAF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266B8-3FE2-4BA6-ACF3-36243CFE2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C456A-E97E-411B-A134-571B2D489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BB829-60BC-44CA-8BB8-D0773A5DE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59F31-11F9-4382-ACEB-CF25C6F84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7B46B-96B8-429A-A851-CACDC9568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0529C-B525-4DE4-98A4-EEF5B8648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39E30-D5B7-4D39-B457-1B66BEBC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5C482-B04F-4059-A1AD-D6BA807A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E499D-2A3B-4C7C-9C4C-3DD08739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F6FF-E959-400E-8F9F-9C6F8CC0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C2674-83B1-4986-8C11-A2A8D14B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8623B-A3E2-49AE-A682-AC70562F7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DB65FA-45AD-4D8A-B2EF-4721C5360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DBDE0-C851-4C3A-A4B9-3160AE1E8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81E967-BF80-49D2-B895-BAF670A5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16A522-BC61-4148-9A70-07C1534A5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540DE-EE72-49CC-A38D-B33CB503F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9A790C-92C7-4382-AE7E-87B7F6842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3E466-D8E6-4467-9386-3766B924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67E026-D79D-489E-853F-2DB59E24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8057-4938-4C27-B26F-2822536E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47C923-1148-4E7F-BE70-9E2DD97F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F5BD9-8C05-4793-8024-465AE62B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83BA0-2A26-4CFC-BE13-7B8E19DD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6B69EC-31FF-42DB-A641-9FE4C4607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669A6-866F-41AF-B8A6-7353454CE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AFCAC4-774A-4087-A1FC-574AFBD18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3357C0-0145-40A8-878D-E41AED439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E7610-0803-4E6A-8A19-09E4E62BE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A009BE-0F09-43CF-95FF-8593B2602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CA0DB-A0D4-4840-A7A4-44310AE6A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644B-467E-4EDD-82F4-BDE964F2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194342-46AF-4CB8-9436-FE745A97C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BAF1AB-F7C5-4891-BAEB-6E96AFBF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1F8B96-1F3B-4BC1-8464-A5FF74BA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784761-C828-484C-A903-84CCFC2E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4F91A6-2C44-45EC-84FD-E9948F866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41C299-C494-42D3-A871-4D9FA2FA6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E72447-BCC3-4C8E-8DA0-AF8C09C1B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AAB107-CC9E-44AD-8E97-ED50F97DB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714396-B35D-467D-81DA-6C6F3DA8E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5E424C-ACC5-4DF1-8871-4FB8B7808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22CB3-D2C2-4CC6-80BC-AD96075A34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A6BE-4EC2-43C0-8D36-AEB5ED131F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1373-E052-4073-AE78-A36A28D06B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0CAD8-7968-4554-A2CC-9CB80A51E8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20479-E259-4928-8DB6-1E564578E0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725C7-D747-4DA1-82D0-802BCD86EA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F2846-E82A-41BC-8622-2574F94EB2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D6781-6977-4C71-B84B-5236BE20A1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41453-E987-4C7C-B0FC-9FBB6663FE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15AE0-99CD-44BE-8A2A-B80334B1A0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BDE46-6163-42AF-9690-9C5D504E2C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77783-6A81-4721-A063-8C0F758A0B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32D00-3570-49A3-802F-27B37FA1C9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65BD-F812-4250-8B29-991EE98296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F613B-A487-40EE-BBA5-26DE109C59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1793E-69B3-438E-8AB9-5880B9DEB9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E0C10-7F53-47E8-B359-AE0576A038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20BEB-3011-4B6B-9513-3F950C4A41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05851-2B1A-46BF-8501-D7B5CB42D1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C8E71-67CA-4B83-A376-C770F252F0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072F9-90F3-471E-9C6E-8683F3175C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A3B5-8CE1-45F0-B384-1925E1CA79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AB678-0792-4F9E-81D3-AA3E430CFC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7D5E7-7D62-486A-A9D6-18FF08FDBE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26363-8516-4885-8DEB-72713AE60C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80999-5E40-4327-924A-168784444A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02D24-0109-40B4-B7E1-393C2A747C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593F9-084D-46BE-9B4A-BE98327AFB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F9589-2820-4DB9-84A9-B97672316C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5AD41-FD5F-496F-8AC4-CA2AA06C2E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735D7-7B64-4B08-A747-A35400F278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ACEA8-B57D-4A39-9965-E91F77B5F8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E3FBA-E976-44DD-B52A-F9F346B824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1D6EF-0176-4B7E-AAE0-92AF006CC8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44FAB-051F-407A-8A42-F37070D9CF1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70B7F-A348-4C44-98A9-8140739D4B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0DDF1-F2EA-4A6D-8209-7D192A6D9B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4F101-7512-4DC6-981C-514833A2BB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D6431-3D67-4410-88E0-FFE7DC71640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B5F44-E025-4A0B-AC91-A1298A635C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Picture 1" descr=""/>
          <p:cNvPicPr/>
          <p:nvPr/>
        </p:nvPicPr>
        <p:blipFill>
          <a:blip r:embed="rId1"/>
          <a:stretch/>
        </p:blipFill>
        <p:spPr>
          <a:xfrm>
            <a:off x="1339920" y="3271680"/>
            <a:ext cx="5661000" cy="4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Picture 1" descr=""/>
          <p:cNvPicPr/>
          <p:nvPr/>
        </p:nvPicPr>
        <p:blipFill>
          <a:blip r:embed="rId1"/>
          <a:srcRect l="0" t="0" r="0" b="12444"/>
          <a:stretch/>
        </p:blipFill>
        <p:spPr>
          <a:xfrm>
            <a:off x="114480" y="868320"/>
            <a:ext cx="8915400" cy="584676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4" descr=""/>
          <p:cNvPicPr/>
          <p:nvPr/>
        </p:nvPicPr>
        <p:blipFill>
          <a:blip r:embed="rId2"/>
          <a:stretch/>
        </p:blipFill>
        <p:spPr>
          <a:xfrm>
            <a:off x="2857680" y="2214720"/>
            <a:ext cx="379080" cy="3236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4" descr=""/>
          <p:cNvPicPr/>
          <p:nvPr/>
        </p:nvPicPr>
        <p:blipFill>
          <a:blip r:embed="rId3"/>
          <a:stretch/>
        </p:blipFill>
        <p:spPr>
          <a:xfrm>
            <a:off x="3929040" y="2214720"/>
            <a:ext cx="379440" cy="3236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4" descr=""/>
          <p:cNvPicPr/>
          <p:nvPr/>
        </p:nvPicPr>
        <p:blipFill>
          <a:blip r:embed="rId4"/>
          <a:stretch/>
        </p:blipFill>
        <p:spPr>
          <a:xfrm>
            <a:off x="5857920" y="228600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4" descr=""/>
          <p:cNvPicPr/>
          <p:nvPr/>
        </p:nvPicPr>
        <p:blipFill>
          <a:blip r:embed="rId5"/>
          <a:stretch/>
        </p:blipFill>
        <p:spPr>
          <a:xfrm>
            <a:off x="1714680" y="2786040"/>
            <a:ext cx="785520" cy="32400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4" descr=""/>
          <p:cNvPicPr/>
          <p:nvPr/>
        </p:nvPicPr>
        <p:blipFill>
          <a:blip r:embed="rId6"/>
          <a:stretch/>
        </p:blipFill>
        <p:spPr>
          <a:xfrm>
            <a:off x="3714840" y="2786040"/>
            <a:ext cx="785880" cy="32400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4" descr=""/>
          <p:cNvPicPr/>
          <p:nvPr/>
        </p:nvPicPr>
        <p:blipFill>
          <a:blip r:embed="rId7"/>
          <a:stretch/>
        </p:blipFill>
        <p:spPr>
          <a:xfrm>
            <a:off x="5643720" y="2714760"/>
            <a:ext cx="785520" cy="3236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4" descr=""/>
          <p:cNvPicPr/>
          <p:nvPr/>
        </p:nvPicPr>
        <p:blipFill>
          <a:blip r:embed="rId8"/>
          <a:stretch/>
        </p:blipFill>
        <p:spPr>
          <a:xfrm>
            <a:off x="7643880" y="2786040"/>
            <a:ext cx="785880" cy="32400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4" descr=""/>
          <p:cNvPicPr/>
          <p:nvPr/>
        </p:nvPicPr>
        <p:blipFill>
          <a:blip r:embed="rId9"/>
          <a:stretch/>
        </p:blipFill>
        <p:spPr>
          <a:xfrm>
            <a:off x="2643120" y="3286080"/>
            <a:ext cx="785880" cy="32400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4" descr=""/>
          <p:cNvPicPr/>
          <p:nvPr/>
        </p:nvPicPr>
        <p:blipFill>
          <a:blip r:embed="rId10"/>
          <a:stretch/>
        </p:blipFill>
        <p:spPr>
          <a:xfrm>
            <a:off x="4714920" y="3286080"/>
            <a:ext cx="785880" cy="32400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4" descr=""/>
          <p:cNvPicPr/>
          <p:nvPr/>
        </p:nvPicPr>
        <p:blipFill>
          <a:blip r:embed="rId11"/>
          <a:stretch/>
        </p:blipFill>
        <p:spPr>
          <a:xfrm>
            <a:off x="5715000" y="3286080"/>
            <a:ext cx="785880" cy="32400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4" descr=""/>
          <p:cNvPicPr/>
          <p:nvPr/>
        </p:nvPicPr>
        <p:blipFill>
          <a:blip r:embed="rId12"/>
          <a:stretch/>
        </p:blipFill>
        <p:spPr>
          <a:xfrm>
            <a:off x="6715080" y="3286080"/>
            <a:ext cx="785880" cy="32400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4" descr=""/>
          <p:cNvPicPr/>
          <p:nvPr/>
        </p:nvPicPr>
        <p:blipFill>
          <a:blip r:embed="rId13"/>
          <a:stretch/>
        </p:blipFill>
        <p:spPr>
          <a:xfrm>
            <a:off x="1714680" y="3714840"/>
            <a:ext cx="785520" cy="3236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4" descr=""/>
          <p:cNvPicPr/>
          <p:nvPr/>
        </p:nvPicPr>
        <p:blipFill>
          <a:blip r:embed="rId14"/>
          <a:stretch/>
        </p:blipFill>
        <p:spPr>
          <a:xfrm>
            <a:off x="3689280" y="3786120"/>
            <a:ext cx="785880" cy="32400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4" descr=""/>
          <p:cNvPicPr/>
          <p:nvPr/>
        </p:nvPicPr>
        <p:blipFill>
          <a:blip r:embed="rId15"/>
          <a:stretch/>
        </p:blipFill>
        <p:spPr>
          <a:xfrm>
            <a:off x="4714920" y="3786120"/>
            <a:ext cx="785880" cy="32400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4" descr=""/>
          <p:cNvPicPr/>
          <p:nvPr/>
        </p:nvPicPr>
        <p:blipFill>
          <a:blip r:embed="rId16"/>
          <a:stretch/>
        </p:blipFill>
        <p:spPr>
          <a:xfrm>
            <a:off x="714240" y="4286160"/>
            <a:ext cx="785880" cy="32400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4" descr=""/>
          <p:cNvPicPr/>
          <p:nvPr/>
        </p:nvPicPr>
        <p:blipFill>
          <a:blip r:embed="rId17"/>
          <a:stretch/>
        </p:blipFill>
        <p:spPr>
          <a:xfrm>
            <a:off x="2643120" y="4286160"/>
            <a:ext cx="785880" cy="32400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4" descr=""/>
          <p:cNvPicPr/>
          <p:nvPr/>
        </p:nvPicPr>
        <p:blipFill>
          <a:blip r:embed="rId18"/>
          <a:stretch/>
        </p:blipFill>
        <p:spPr>
          <a:xfrm>
            <a:off x="1714680" y="4786200"/>
            <a:ext cx="785520" cy="32400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4" descr=""/>
          <p:cNvPicPr/>
          <p:nvPr/>
        </p:nvPicPr>
        <p:blipFill>
          <a:blip r:embed="rId19"/>
          <a:stretch/>
        </p:blipFill>
        <p:spPr>
          <a:xfrm>
            <a:off x="714240" y="5286240"/>
            <a:ext cx="785880" cy="32400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4" descr=""/>
          <p:cNvPicPr/>
          <p:nvPr/>
        </p:nvPicPr>
        <p:blipFill>
          <a:blip r:embed="rId20"/>
          <a:stretch/>
        </p:blipFill>
        <p:spPr>
          <a:xfrm>
            <a:off x="1714680" y="5214960"/>
            <a:ext cx="785520" cy="32400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4" descr=""/>
          <p:cNvPicPr/>
          <p:nvPr/>
        </p:nvPicPr>
        <p:blipFill>
          <a:blip r:embed="rId21"/>
          <a:stretch/>
        </p:blipFill>
        <p:spPr>
          <a:xfrm>
            <a:off x="2714760" y="5286240"/>
            <a:ext cx="785520" cy="32400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4" descr=""/>
          <p:cNvPicPr/>
          <p:nvPr/>
        </p:nvPicPr>
        <p:blipFill>
          <a:blip r:embed="rId22"/>
          <a:stretch/>
        </p:blipFill>
        <p:spPr>
          <a:xfrm>
            <a:off x="660240" y="5765760"/>
            <a:ext cx="785880" cy="3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Picture 1" descr=""/>
          <p:cNvPicPr/>
          <p:nvPr/>
        </p:nvPicPr>
        <p:blipFill>
          <a:blip r:embed="rId1"/>
          <a:srcRect l="0" t="0" r="0" b="20903"/>
          <a:stretch/>
        </p:blipFill>
        <p:spPr>
          <a:xfrm>
            <a:off x="119160" y="1216080"/>
            <a:ext cx="8905680" cy="507060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4" descr=""/>
          <p:cNvPicPr/>
          <p:nvPr/>
        </p:nvPicPr>
        <p:blipFill>
          <a:blip r:embed="rId2"/>
          <a:stretch/>
        </p:blipFill>
        <p:spPr>
          <a:xfrm>
            <a:off x="4143240" y="1214280"/>
            <a:ext cx="785880" cy="32400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4" descr=""/>
          <p:cNvPicPr/>
          <p:nvPr/>
        </p:nvPicPr>
        <p:blipFill>
          <a:blip r:embed="rId3"/>
          <a:stretch/>
        </p:blipFill>
        <p:spPr>
          <a:xfrm>
            <a:off x="7000920" y="1214280"/>
            <a:ext cx="571320" cy="32400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5" descr=""/>
          <p:cNvPicPr/>
          <p:nvPr/>
        </p:nvPicPr>
        <p:blipFill>
          <a:blip r:embed="rId4"/>
          <a:stretch/>
        </p:blipFill>
        <p:spPr>
          <a:xfrm>
            <a:off x="571680" y="4000680"/>
            <a:ext cx="1866600" cy="45720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4" descr=""/>
          <p:cNvPicPr/>
          <p:nvPr/>
        </p:nvPicPr>
        <p:blipFill>
          <a:blip r:embed="rId5"/>
          <a:stretch/>
        </p:blipFill>
        <p:spPr>
          <a:xfrm>
            <a:off x="1436760" y="5126040"/>
            <a:ext cx="242640" cy="28728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4" descr=""/>
          <p:cNvPicPr/>
          <p:nvPr/>
        </p:nvPicPr>
        <p:blipFill>
          <a:blip r:embed="rId6"/>
          <a:stretch/>
        </p:blipFill>
        <p:spPr>
          <a:xfrm>
            <a:off x="3760920" y="5124600"/>
            <a:ext cx="241200" cy="28728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4" descr=""/>
          <p:cNvPicPr/>
          <p:nvPr/>
        </p:nvPicPr>
        <p:blipFill>
          <a:blip r:embed="rId7"/>
          <a:stretch/>
        </p:blipFill>
        <p:spPr>
          <a:xfrm>
            <a:off x="6072120" y="5124600"/>
            <a:ext cx="243000" cy="28728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4" descr=""/>
          <p:cNvPicPr/>
          <p:nvPr/>
        </p:nvPicPr>
        <p:blipFill>
          <a:blip r:embed="rId8"/>
          <a:stretch/>
        </p:blipFill>
        <p:spPr>
          <a:xfrm>
            <a:off x="8358120" y="5114880"/>
            <a:ext cx="243000" cy="28728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4" descr=""/>
          <p:cNvPicPr/>
          <p:nvPr/>
        </p:nvPicPr>
        <p:blipFill>
          <a:blip r:embed="rId9"/>
          <a:stretch/>
        </p:blipFill>
        <p:spPr>
          <a:xfrm>
            <a:off x="1436760" y="5511960"/>
            <a:ext cx="242640" cy="28728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4" descr=""/>
          <p:cNvPicPr/>
          <p:nvPr/>
        </p:nvPicPr>
        <p:blipFill>
          <a:blip r:embed="rId10"/>
          <a:stretch/>
        </p:blipFill>
        <p:spPr>
          <a:xfrm>
            <a:off x="3760920" y="5508720"/>
            <a:ext cx="241200" cy="28872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4" descr=""/>
          <p:cNvPicPr/>
          <p:nvPr/>
        </p:nvPicPr>
        <p:blipFill>
          <a:blip r:embed="rId11"/>
          <a:stretch/>
        </p:blipFill>
        <p:spPr>
          <a:xfrm>
            <a:off x="6072120" y="5508720"/>
            <a:ext cx="243000" cy="28872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4" descr=""/>
          <p:cNvPicPr/>
          <p:nvPr/>
        </p:nvPicPr>
        <p:blipFill>
          <a:blip r:embed="rId12"/>
          <a:stretch/>
        </p:blipFill>
        <p:spPr>
          <a:xfrm>
            <a:off x="8358120" y="5500800"/>
            <a:ext cx="243000" cy="28728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4" descr=""/>
          <p:cNvPicPr/>
          <p:nvPr/>
        </p:nvPicPr>
        <p:blipFill>
          <a:blip r:embed="rId13"/>
          <a:stretch/>
        </p:blipFill>
        <p:spPr>
          <a:xfrm>
            <a:off x="1447920" y="5945040"/>
            <a:ext cx="242640" cy="28764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4" descr=""/>
          <p:cNvPicPr/>
          <p:nvPr/>
        </p:nvPicPr>
        <p:blipFill>
          <a:blip r:embed="rId14"/>
          <a:stretch/>
        </p:blipFill>
        <p:spPr>
          <a:xfrm>
            <a:off x="3772080" y="5942160"/>
            <a:ext cx="241200" cy="28728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4" descr=""/>
          <p:cNvPicPr/>
          <p:nvPr/>
        </p:nvPicPr>
        <p:blipFill>
          <a:blip r:embed="rId15"/>
          <a:stretch/>
        </p:blipFill>
        <p:spPr>
          <a:xfrm>
            <a:off x="6083280" y="5942160"/>
            <a:ext cx="241200" cy="28728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4" descr=""/>
          <p:cNvPicPr/>
          <p:nvPr/>
        </p:nvPicPr>
        <p:blipFill>
          <a:blip r:embed="rId16"/>
          <a:stretch/>
        </p:blipFill>
        <p:spPr>
          <a:xfrm>
            <a:off x="8369280" y="5934240"/>
            <a:ext cx="2412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2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0" name="Picture 2" descr=""/>
          <p:cNvPicPr/>
          <p:nvPr/>
        </p:nvPicPr>
        <p:blipFill>
          <a:blip r:embed="rId1"/>
          <a:stretch/>
        </p:blipFill>
        <p:spPr>
          <a:xfrm>
            <a:off x="357120" y="2376360"/>
            <a:ext cx="7877160" cy="240984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5" descr=""/>
          <p:cNvPicPr/>
          <p:nvPr/>
        </p:nvPicPr>
        <p:blipFill>
          <a:blip r:embed="rId2"/>
          <a:srcRect l="0" t="0" r="22603" b="-3060"/>
          <a:stretch/>
        </p:blipFill>
        <p:spPr>
          <a:xfrm>
            <a:off x="1285920" y="4357800"/>
            <a:ext cx="1879560" cy="41256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3"/>
          <a:stretch/>
        </p:blipFill>
        <p:spPr>
          <a:xfrm>
            <a:off x="357120" y="785880"/>
            <a:ext cx="8086680" cy="125712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3" descr=""/>
          <p:cNvPicPr/>
          <p:nvPr/>
        </p:nvPicPr>
        <p:blipFill>
          <a:blip r:embed="rId4"/>
          <a:stretch/>
        </p:blipFill>
        <p:spPr>
          <a:xfrm>
            <a:off x="317520" y="4929120"/>
            <a:ext cx="7601040" cy="187632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4" descr=""/>
          <p:cNvPicPr/>
          <p:nvPr/>
        </p:nvPicPr>
        <p:blipFill>
          <a:blip r:embed="rId5"/>
          <a:stretch/>
        </p:blipFill>
        <p:spPr>
          <a:xfrm>
            <a:off x="2089080" y="1339920"/>
            <a:ext cx="241200" cy="28728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4" descr=""/>
          <p:cNvPicPr/>
          <p:nvPr/>
        </p:nvPicPr>
        <p:blipFill>
          <a:blip r:embed="rId6"/>
          <a:stretch/>
        </p:blipFill>
        <p:spPr>
          <a:xfrm>
            <a:off x="5000760" y="1320840"/>
            <a:ext cx="242640" cy="28728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4" descr=""/>
          <p:cNvPicPr/>
          <p:nvPr/>
        </p:nvPicPr>
        <p:blipFill>
          <a:blip r:embed="rId7"/>
          <a:stretch/>
        </p:blipFill>
        <p:spPr>
          <a:xfrm>
            <a:off x="8072280" y="1339920"/>
            <a:ext cx="243000" cy="28728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4" descr=""/>
          <p:cNvPicPr/>
          <p:nvPr/>
        </p:nvPicPr>
        <p:blipFill>
          <a:blip r:embed="rId8"/>
          <a:stretch/>
        </p:blipFill>
        <p:spPr>
          <a:xfrm>
            <a:off x="2071800" y="1758960"/>
            <a:ext cx="242640" cy="28728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4" descr=""/>
          <p:cNvPicPr/>
          <p:nvPr/>
        </p:nvPicPr>
        <p:blipFill>
          <a:blip r:embed="rId9"/>
          <a:stretch/>
        </p:blipFill>
        <p:spPr>
          <a:xfrm>
            <a:off x="5143680" y="1738440"/>
            <a:ext cx="242640" cy="2872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4" descr=""/>
          <p:cNvPicPr/>
          <p:nvPr/>
        </p:nvPicPr>
        <p:blipFill>
          <a:blip r:embed="rId10"/>
          <a:stretch/>
        </p:blipFill>
        <p:spPr>
          <a:xfrm>
            <a:off x="8072280" y="1758960"/>
            <a:ext cx="243000" cy="28728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5" descr=""/>
          <p:cNvPicPr/>
          <p:nvPr/>
        </p:nvPicPr>
        <p:blipFill>
          <a:blip r:embed="rId11"/>
          <a:srcRect l="0" t="0" r="22603" b="-3060"/>
          <a:stretch/>
        </p:blipFill>
        <p:spPr>
          <a:xfrm>
            <a:off x="5786280" y="4357800"/>
            <a:ext cx="1879920" cy="41256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5" descr=""/>
          <p:cNvPicPr/>
          <p:nvPr/>
        </p:nvPicPr>
        <p:blipFill>
          <a:blip r:embed="rId12"/>
          <a:srcRect l="0" t="0" r="22603" b="-3060"/>
          <a:stretch/>
        </p:blipFill>
        <p:spPr>
          <a:xfrm>
            <a:off x="4964040" y="6143760"/>
            <a:ext cx="1879560" cy="41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Picture 1" descr=""/>
          <p:cNvPicPr/>
          <p:nvPr/>
        </p:nvPicPr>
        <p:blipFill>
          <a:blip r:embed="rId1"/>
          <a:stretch/>
        </p:blipFill>
        <p:spPr>
          <a:xfrm>
            <a:off x="428760" y="1295280"/>
            <a:ext cx="8286480" cy="456264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2" descr=""/>
          <p:cNvPicPr/>
          <p:nvPr/>
        </p:nvPicPr>
        <p:blipFill>
          <a:blip r:embed="rId2"/>
          <a:stretch/>
        </p:blipFill>
        <p:spPr>
          <a:xfrm>
            <a:off x="7786800" y="5143680"/>
            <a:ext cx="1190520" cy="92844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3" descr=""/>
          <p:cNvPicPr/>
          <p:nvPr/>
        </p:nvPicPr>
        <p:blipFill>
          <a:blip r:embed="rId3"/>
          <a:stretch/>
        </p:blipFill>
        <p:spPr>
          <a:xfrm>
            <a:off x="849240" y="2982960"/>
            <a:ext cx="2886120" cy="41904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3" descr=""/>
          <p:cNvPicPr/>
          <p:nvPr/>
        </p:nvPicPr>
        <p:blipFill>
          <a:blip r:embed="rId4"/>
          <a:stretch/>
        </p:blipFill>
        <p:spPr>
          <a:xfrm>
            <a:off x="1160640" y="4465800"/>
            <a:ext cx="2885760" cy="41904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3" descr=""/>
          <p:cNvPicPr/>
          <p:nvPr/>
        </p:nvPicPr>
        <p:blipFill>
          <a:blip r:embed="rId5"/>
          <a:stretch/>
        </p:blipFill>
        <p:spPr>
          <a:xfrm>
            <a:off x="1160640" y="5437080"/>
            <a:ext cx="2885760" cy="4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7" dur="2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2" dur="2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7" dur="2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Picture 1" descr=""/>
          <p:cNvPicPr/>
          <p:nvPr/>
        </p:nvPicPr>
        <p:blipFill>
          <a:blip r:embed="rId1"/>
          <a:stretch/>
        </p:blipFill>
        <p:spPr>
          <a:xfrm>
            <a:off x="1057320" y="2100240"/>
            <a:ext cx="7029360" cy="265752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4" descr=""/>
          <p:cNvPicPr/>
          <p:nvPr/>
        </p:nvPicPr>
        <p:blipFill>
          <a:blip r:embed="rId2"/>
          <a:stretch/>
        </p:blipFill>
        <p:spPr>
          <a:xfrm>
            <a:off x="1643040" y="2643120"/>
            <a:ext cx="2714760" cy="32400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4" descr=""/>
          <p:cNvPicPr/>
          <p:nvPr/>
        </p:nvPicPr>
        <p:blipFill>
          <a:blip r:embed="rId3"/>
          <a:stretch/>
        </p:blipFill>
        <p:spPr>
          <a:xfrm>
            <a:off x="1785960" y="3857760"/>
            <a:ext cx="2714760" cy="49824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4" descr=""/>
          <p:cNvPicPr/>
          <p:nvPr/>
        </p:nvPicPr>
        <p:blipFill>
          <a:blip r:embed="rId4"/>
          <a:stretch/>
        </p:blipFill>
        <p:spPr>
          <a:xfrm>
            <a:off x="1428840" y="4357800"/>
            <a:ext cx="2714400" cy="3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4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9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4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1" name="Picture 1" descr=""/>
          <p:cNvPicPr/>
          <p:nvPr/>
        </p:nvPicPr>
        <p:blipFill>
          <a:blip r:embed="rId1"/>
          <a:stretch/>
        </p:blipFill>
        <p:spPr>
          <a:xfrm>
            <a:off x="3843360" y="1514520"/>
            <a:ext cx="1457280" cy="420048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4" descr=""/>
          <p:cNvPicPr/>
          <p:nvPr/>
        </p:nvPicPr>
        <p:blipFill>
          <a:blip r:embed="rId2"/>
          <a:stretch/>
        </p:blipFill>
        <p:spPr>
          <a:xfrm>
            <a:off x="4937040" y="235728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4" descr=""/>
          <p:cNvPicPr/>
          <p:nvPr/>
        </p:nvPicPr>
        <p:blipFill>
          <a:blip r:embed="rId3"/>
          <a:stretch/>
        </p:blipFill>
        <p:spPr>
          <a:xfrm>
            <a:off x="4921200" y="274788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4" descr=""/>
          <p:cNvPicPr/>
          <p:nvPr/>
        </p:nvPicPr>
        <p:blipFill>
          <a:blip r:embed="rId4"/>
          <a:stretch/>
        </p:blipFill>
        <p:spPr>
          <a:xfrm>
            <a:off x="4921200" y="315900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4" descr=""/>
          <p:cNvPicPr/>
          <p:nvPr/>
        </p:nvPicPr>
        <p:blipFill>
          <a:blip r:embed="rId5"/>
          <a:stretch/>
        </p:blipFill>
        <p:spPr>
          <a:xfrm>
            <a:off x="4921200" y="358776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4" descr=""/>
          <p:cNvPicPr/>
          <p:nvPr/>
        </p:nvPicPr>
        <p:blipFill>
          <a:blip r:embed="rId6"/>
          <a:stretch/>
        </p:blipFill>
        <p:spPr>
          <a:xfrm>
            <a:off x="4919760" y="399888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4" descr=""/>
          <p:cNvPicPr/>
          <p:nvPr/>
        </p:nvPicPr>
        <p:blipFill>
          <a:blip r:embed="rId7"/>
          <a:stretch/>
        </p:blipFill>
        <p:spPr>
          <a:xfrm>
            <a:off x="4919760" y="4427640"/>
            <a:ext cx="379440" cy="32364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4" descr=""/>
          <p:cNvPicPr/>
          <p:nvPr/>
        </p:nvPicPr>
        <p:blipFill>
          <a:blip r:embed="rId8"/>
          <a:stretch/>
        </p:blipFill>
        <p:spPr>
          <a:xfrm>
            <a:off x="4919760" y="480204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4" descr=""/>
          <p:cNvPicPr/>
          <p:nvPr/>
        </p:nvPicPr>
        <p:blipFill>
          <a:blip r:embed="rId9"/>
          <a:stretch/>
        </p:blipFill>
        <p:spPr>
          <a:xfrm>
            <a:off x="4822920" y="5230800"/>
            <a:ext cx="379440" cy="3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1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6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1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6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1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6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1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6:20:03Z</dcterms:modified>
  <cp:revision>5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